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F78-D8B9-4327-8BB1-4A85C9B9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79D-EE01-4AF4-9B97-C62C7466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C34-51D9-4EB7-AD73-3474026C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6AD-577C-45D9-8E49-504B54CB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073-8FB9-46BC-92E7-18DB9AE4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7D8-A95D-411A-A45C-E8E2D45C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269-1675-41E2-AFE1-B6FFD53A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AFF-2F4E-464C-B76F-C2E2C25C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22E-E6BA-4E61-A258-D65EB35A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A39-15CE-4BA8-9F1F-60119593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814-570A-4C3B-AFE4-235AEB82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4D9-75B8-411B-B4CC-14846DE8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FD1D-0107-4090-BC17-18583FE87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adver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4724280"/>
            <a:ext cx="424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221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184464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ac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3213000"/>
            <a:ext cx="576108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cc0000"/>
                </a:solidFill>
                <a:latin typeface="Arial"/>
              </a:rPr>
              <a:t>ad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ing to a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6000" spc="-1" strike="noStrike">
                <a:solidFill>
                  <a:srgbClr val="cc0000"/>
                </a:solidFill>
                <a:latin typeface="Arial"/>
              </a:rPr>
              <a:t>ver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Describing a ‘doing’ wor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515772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unn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cc0000"/>
                </a:solidFill>
                <a:latin typeface="Arial"/>
              </a:rPr>
              <a:t>quickly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NZ" sz="3200" spc="-1" strike="noStrike">
                <a:solidFill>
                  <a:srgbClr val="cc0000"/>
                </a:solidFill>
                <a:latin typeface="Arial"/>
              </a:rPr>
              <a:t>loud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nor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cc0000"/>
                </a:solidFill>
                <a:latin typeface="Arial"/>
              </a:rPr>
              <a:t>noisily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limb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cc0000"/>
                </a:solidFill>
                <a:latin typeface="Arial"/>
              </a:rPr>
              <a:t>hig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09:40:05Z</dcterms:modified>
  <cp:revision>18</cp:revision>
  <dc:subject/>
  <dc:title>Simile</dc:title>
</cp:coreProperties>
</file>